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2.xml" ContentType="application/vnd.openxmlformats-officedocument.drawingml.chart+xml"/>
  <Override PartName="/ppt/charts/chart14.xml" ContentType="application/vnd.openxmlformats-officedocument.drawingml.chart+xml"/>
  <Override PartName="/ppt/charts/chart2.xml" ContentType="application/vnd.openxmlformats-officedocument.drawingml.chart+xml"/>
  <Override PartName="/ppt/charts/chart1.xml" ContentType="application/vnd.openxmlformats-officedocument.drawingml.chart+xml"/>
  <Override PartName="/ppt/charts/chart13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charts/chart10.xml" ContentType="application/vnd.openxmlformats-officedocument.drawingml.chart+xml"/>
  <Override PartName="/ppt/charts/chart11.xml" ContentType="application/vnd.openxmlformats-officedocument.drawingml.char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600" spc="-1" strike="noStrike">
                <a:solidFill>
                  <a:srgbClr val="000000"/>
                </a:solidFill>
                <a:latin typeface="Arial"/>
              </a:defRPr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PERIODO MATUTINO EEDMM</a:t>
            </a:r>
          </a:p>
        </c:rich>
      </c:tx>
      <c:layout>
        <c:manualLayout>
          <c:xMode val="edge"/>
          <c:yMode val="edge"/>
          <c:x val="0.431872893596533"/>
          <c:y val="0.020595880823835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251879560016"/>
          <c:y val="0.0967806438712258"/>
          <c:w val="0.959927410095922"/>
          <c:h val="0.882823435312937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1</c:v>
                </c:pt>
                <c:pt idx="1">
                  <c:v>0</c:v>
                </c:pt>
                <c:pt idx="2">
                  <c:v>21</c:v>
                </c:pt>
                <c:pt idx="3">
                  <c:v>2</c:v>
                </c:pt>
                <c:pt idx="4">
                  <c:v>2</c:v>
                </c:pt>
                <c:pt idx="5">
                  <c:v>0</c:v>
                </c:pt>
                <c:pt idx="6">
                  <c:v>0</c:v>
                </c:pt>
                <c:pt idx="7">
                  <c:v>8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38775510204082</c:v>
                </c:pt>
                <c:pt idx="1">
                  <c:v>3.51020408163265</c:v>
                </c:pt>
                <c:pt idx="2">
                  <c:v>9.6530612244898</c:v>
                </c:pt>
                <c:pt idx="3">
                  <c:v>8.77551020408163</c:v>
                </c:pt>
                <c:pt idx="4">
                  <c:v>4.38775510204082</c:v>
                </c:pt>
                <c:pt idx="5">
                  <c:v>4.38775510204082</c:v>
                </c:pt>
                <c:pt idx="6">
                  <c:v>1.75510204081633</c:v>
                </c:pt>
                <c:pt idx="7">
                  <c:v>4.38775510204082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.877551020408163</c:v>
                </c:pt>
                <c:pt idx="15">
                  <c:v>0.877551020408163</c:v>
                </c:pt>
              </c:numCache>
            </c:numRef>
          </c:val>
        </c:ser>
        <c:gapWidth val="100"/>
        <c:overlap val="0"/>
        <c:axId val="39390048"/>
        <c:axId val="43197159"/>
      </c:barChart>
      <c:catAx>
        <c:axId val="3939004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197159"/>
        <c:crossesAt val="0"/>
        <c:auto val="1"/>
        <c:lblAlgn val="ctr"/>
        <c:lblOffset val="100"/>
        <c:noMultiLvlLbl val="0"/>
      </c:catAx>
      <c:valAx>
        <c:axId val="431971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390048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10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285" spc="-1" strike="noStrike">
                <a:solidFill>
                  <a:srgbClr val="000000"/>
                </a:solidFill>
                <a:latin typeface="Arial"/>
              </a:defRPr>
            </a:pPr>
            <a:r>
              <a:rPr b="1" sz="1285" spc="-1" strike="noStrike">
                <a:solidFill>
                  <a:srgbClr val="000000"/>
                </a:solidFill>
                <a:latin typeface="Arial"/>
              </a:rPr>
              <a:t>NOTURNO EEDMM</a:t>
            </a:r>
          </a:p>
        </c:rich>
      </c:tx>
      <c:layout>
        <c:manualLayout>
          <c:xMode val="edge"/>
          <c:yMode val="edge"/>
          <c:x val="0.404318358579312"/>
          <c:y val="0.020595880823835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251879560016"/>
          <c:y val="0.160767846430714"/>
          <c:w val="0.959927410095922"/>
          <c:h val="0.818636272745451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2</c:v>
                </c:pt>
                <c:pt idx="1">
                  <c:v>2</c:v>
                </c:pt>
                <c:pt idx="2">
                  <c:v>16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2</c:v>
                </c:pt>
                <c:pt idx="7">
                  <c:v>0</c:v>
                </c:pt>
                <c:pt idx="8">
                  <c:v>4</c:v>
                </c:pt>
                <c:pt idx="9">
                  <c:v>1</c:v>
                </c:pt>
                <c:pt idx="10">
                  <c:v>1</c:v>
                </c:pt>
                <c:pt idx="11">
                  <c:v>2</c:v>
                </c:pt>
                <c:pt idx="12">
                  <c:v>0</c:v>
                </c:pt>
                <c:pt idx="13">
                  <c:v>0</c:v>
                </c:pt>
                <c:pt idx="14">
                  <c:v>4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3.64227642276423</c:v>
                </c:pt>
                <c:pt idx="1">
                  <c:v>3.64227642276423</c:v>
                </c:pt>
                <c:pt idx="2">
                  <c:v>10.9268292682927</c:v>
                </c:pt>
                <c:pt idx="3">
                  <c:v>9.36585365853658</c:v>
                </c:pt>
                <c:pt idx="4">
                  <c:v>6.76422764227642</c:v>
                </c:pt>
                <c:pt idx="5">
                  <c:v>6.76422764227642</c:v>
                </c:pt>
                <c:pt idx="6">
                  <c:v>5.72357723577236</c:v>
                </c:pt>
                <c:pt idx="7">
                  <c:v>4.68292682926829</c:v>
                </c:pt>
                <c:pt idx="8">
                  <c:v>2.08130081300813</c:v>
                </c:pt>
                <c:pt idx="9">
                  <c:v>2.60162601626016</c:v>
                </c:pt>
                <c:pt idx="10">
                  <c:v>2.60162601626016</c:v>
                </c:pt>
                <c:pt idx="11">
                  <c:v>2.08130081300813</c:v>
                </c:pt>
                <c:pt idx="12">
                  <c:v>1.5609756097561</c:v>
                </c:pt>
                <c:pt idx="13">
                  <c:v>0.520325203252032</c:v>
                </c:pt>
                <c:pt idx="14">
                  <c:v>1.04065040650406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96484470"/>
        <c:axId val="36386096"/>
      </c:barChart>
      <c:catAx>
        <c:axId val="9648447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386096"/>
        <c:crossesAt val="0"/>
        <c:auto val="1"/>
        <c:lblAlgn val="ctr"/>
        <c:lblOffset val="100"/>
        <c:noMultiLvlLbl val="0"/>
      </c:catAx>
      <c:valAx>
        <c:axId val="363860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484470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1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800" spc="-1" strike="noStrike">
                <a:solidFill>
                  <a:srgbClr val="000000"/>
                </a:solidFill>
                <a:latin typeface="Arial"/>
              </a:defRPr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NOTURNO EEDMM</a:t>
            </a:r>
          </a:p>
        </c:rich>
      </c:tx>
      <c:layout>
        <c:manualLayout>
          <c:xMode val="edge"/>
          <c:yMode val="edge"/>
          <c:x val="0.393691459035208"/>
          <c:y val="0.020591763294682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918551701159"/>
          <c:y val="0.209116353458617"/>
          <c:w val="0.959942245751731"/>
          <c:h val="0.769892043182727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8</c:v>
                </c:pt>
                <c:pt idx="3">
                  <c:v>9</c:v>
                </c:pt>
                <c:pt idx="4">
                  <c:v>0</c:v>
                </c:pt>
                <c:pt idx="5">
                  <c:v>0</c:v>
                </c:pt>
                <c:pt idx="6">
                  <c:v>13</c:v>
                </c:pt>
                <c:pt idx="7">
                  <c:v>2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3</c:v>
                </c:pt>
                <c:pt idx="12">
                  <c:v>0</c:v>
                </c:pt>
                <c:pt idx="13">
                  <c:v>0</c:v>
                </c:pt>
                <c:pt idx="14">
                  <c:v>4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2.95934959349594</c:v>
                </c:pt>
                <c:pt idx="1">
                  <c:v>2.95934959349594</c:v>
                </c:pt>
                <c:pt idx="2">
                  <c:v>8.87804878048781</c:v>
                </c:pt>
                <c:pt idx="3">
                  <c:v>7.60975609756098</c:v>
                </c:pt>
                <c:pt idx="4">
                  <c:v>5.49593495934959</c:v>
                </c:pt>
                <c:pt idx="5">
                  <c:v>5.49593495934959</c:v>
                </c:pt>
                <c:pt idx="6">
                  <c:v>4.65040650406504</c:v>
                </c:pt>
                <c:pt idx="7">
                  <c:v>3.80487804878049</c:v>
                </c:pt>
                <c:pt idx="8">
                  <c:v>1.69105691056911</c:v>
                </c:pt>
                <c:pt idx="9">
                  <c:v>2.11382113821138</c:v>
                </c:pt>
                <c:pt idx="10">
                  <c:v>2.11382113821138</c:v>
                </c:pt>
                <c:pt idx="11">
                  <c:v>1.69105691056911</c:v>
                </c:pt>
                <c:pt idx="12">
                  <c:v>1.26829268292683</c:v>
                </c:pt>
                <c:pt idx="13">
                  <c:v>0.422764227642276</c:v>
                </c:pt>
                <c:pt idx="14">
                  <c:v>0.845528455284553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89425968"/>
        <c:axId val="38692248"/>
      </c:barChart>
      <c:catAx>
        <c:axId val="8942596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692248"/>
        <c:crossesAt val="0"/>
        <c:auto val="1"/>
        <c:lblAlgn val="ctr"/>
        <c:lblOffset val="100"/>
        <c:noMultiLvlLbl val="0"/>
      </c:catAx>
      <c:valAx>
        <c:axId val="386922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425968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1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071" spc="-1" strike="noStrike">
                <a:solidFill>
                  <a:srgbClr val="000000"/>
                </a:solidFill>
                <a:latin typeface="Arial"/>
              </a:defRPr>
            </a:pPr>
            <a:r>
              <a:rPr b="1" sz="1071" spc="-1" strike="noStrike">
                <a:solidFill>
                  <a:srgbClr val="000000"/>
                </a:solidFill>
                <a:latin typeface="Arial"/>
              </a:rPr>
              <a:t>NOTURNO EEDMM</a:t>
            </a:r>
          </a:p>
        </c:rich>
      </c:tx>
      <c:layout>
        <c:manualLayout>
          <c:xMode val="edge"/>
          <c:yMode val="edge"/>
          <c:x val="0.404382027465446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160854893138358"/>
          <c:w val="0.959957335229545"/>
          <c:h val="0.818522684664417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3</c:v>
                </c:pt>
                <c:pt idx="1">
                  <c:v>0</c:v>
                </c:pt>
                <c:pt idx="2">
                  <c:v>47</c:v>
                </c:pt>
                <c:pt idx="3">
                  <c:v>6</c:v>
                </c:pt>
                <c:pt idx="4">
                  <c:v>0</c:v>
                </c:pt>
                <c:pt idx="5">
                  <c:v>0</c:v>
                </c:pt>
                <c:pt idx="6">
                  <c:v>8</c:v>
                </c:pt>
                <c:pt idx="7">
                  <c:v>1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4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38211382113821</c:v>
                </c:pt>
                <c:pt idx="1">
                  <c:v>4.38211382113821</c:v>
                </c:pt>
                <c:pt idx="2">
                  <c:v>13.1463414634146</c:v>
                </c:pt>
                <c:pt idx="3">
                  <c:v>11.2682926829268</c:v>
                </c:pt>
                <c:pt idx="4">
                  <c:v>8.13821138211382</c:v>
                </c:pt>
                <c:pt idx="5">
                  <c:v>8.13821138211382</c:v>
                </c:pt>
                <c:pt idx="6">
                  <c:v>6.88617886178862</c:v>
                </c:pt>
                <c:pt idx="7">
                  <c:v>5.63414634146342</c:v>
                </c:pt>
                <c:pt idx="8">
                  <c:v>2.50406504065041</c:v>
                </c:pt>
                <c:pt idx="9">
                  <c:v>3.13008130081301</c:v>
                </c:pt>
                <c:pt idx="10">
                  <c:v>3.13008130081301</c:v>
                </c:pt>
                <c:pt idx="11">
                  <c:v>2.50406504065041</c:v>
                </c:pt>
                <c:pt idx="12">
                  <c:v>1.87804878048781</c:v>
                </c:pt>
                <c:pt idx="13">
                  <c:v>0.626016260162602</c:v>
                </c:pt>
                <c:pt idx="14">
                  <c:v>1.2520325203252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30283910"/>
        <c:axId val="70737916"/>
      </c:barChart>
      <c:catAx>
        <c:axId val="3028391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737916"/>
        <c:crossesAt val="0"/>
        <c:auto val="1"/>
        <c:lblAlgn val="ctr"/>
        <c:lblOffset val="100"/>
        <c:noMultiLvlLbl val="0"/>
      </c:catAx>
      <c:valAx>
        <c:axId val="707379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283910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1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300" spc="-1" strike="noStrike">
                <a:solidFill>
                  <a:srgbClr val="000000"/>
                </a:solidFill>
                <a:latin typeface="Arial"/>
              </a:defRPr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EEDMM</a:t>
            </a:r>
          </a:p>
        </c:rich>
      </c:tx>
      <c:layout>
        <c:manualLayout>
          <c:xMode val="edge"/>
          <c:yMode val="edge"/>
          <c:x val="0.467818081674404"/>
          <c:y val="0.0199113120598209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858368085609"/>
          <c:y val="0.119641770280845"/>
          <c:w val="0.959988984184436"/>
          <c:h val="0.860273019737414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B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"/>
                <c:pt idx="0">
                  <c:v>2008 Agosto</c:v>
                </c:pt>
                <c:pt idx="1">
                  <c:v>2008 setembro</c:v>
                </c:pt>
                <c:pt idx="2">
                  <c:v>2008 outubro</c:v>
                </c:pt>
                <c:pt idx="3">
                  <c:v>2008 novembro</c:v>
                </c:pt>
                <c:pt idx="4">
                  <c:v>2009 março</c:v>
                </c:pt>
                <c:pt idx="5">
                  <c:v>2009 abril</c:v>
                </c:pt>
                <c:pt idx="6">
                  <c:v>2009 maio</c:v>
                </c:pt>
                <c:pt idx="7">
                  <c:v>2009 junho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8"/>
                <c:pt idx="0">
                  <c:v>152</c:v>
                </c:pt>
                <c:pt idx="1">
                  <c:v>158</c:v>
                </c:pt>
                <c:pt idx="2">
                  <c:v>135</c:v>
                </c:pt>
                <c:pt idx="3">
                  <c:v>154</c:v>
                </c:pt>
                <c:pt idx="4">
                  <c:v>108</c:v>
                </c:pt>
                <c:pt idx="5">
                  <c:v>157</c:v>
                </c:pt>
                <c:pt idx="6">
                  <c:v>136</c:v>
                </c:pt>
                <c:pt idx="7">
                  <c:v>189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C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"/>
                <c:pt idx="0">
                  <c:v>2008 Agosto</c:v>
                </c:pt>
                <c:pt idx="1">
                  <c:v>2008 setembro</c:v>
                </c:pt>
                <c:pt idx="2">
                  <c:v>2008 outubro</c:v>
                </c:pt>
                <c:pt idx="3">
                  <c:v>2008 novembro</c:v>
                </c:pt>
                <c:pt idx="4">
                  <c:v>2009 março</c:v>
                </c:pt>
                <c:pt idx="5">
                  <c:v>2009 abril</c:v>
                </c:pt>
                <c:pt idx="6">
                  <c:v>2009 maio</c:v>
                </c:pt>
                <c:pt idx="7">
                  <c:v>2009 junho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8"/>
                <c:pt idx="0">
                  <c:v>47</c:v>
                </c:pt>
                <c:pt idx="1">
                  <c:v>69</c:v>
                </c:pt>
                <c:pt idx="2">
                  <c:v>111</c:v>
                </c:pt>
                <c:pt idx="3">
                  <c:v>147</c:v>
                </c:pt>
                <c:pt idx="4">
                  <c:v>85</c:v>
                </c:pt>
                <c:pt idx="5">
                  <c:v>68</c:v>
                </c:pt>
                <c:pt idx="6">
                  <c:v>97</c:v>
                </c:pt>
                <c:pt idx="7">
                  <c:v>156</c:v>
                </c:pt>
              </c:numCache>
            </c:numRef>
          </c:val>
        </c:ser>
        <c:gapWidth val="100"/>
        <c:overlap val="0"/>
        <c:axId val="86109602"/>
        <c:axId val="23235242"/>
      </c:barChart>
      <c:catAx>
        <c:axId val="8610960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235242"/>
        <c:crossesAt val="0"/>
        <c:auto val="1"/>
        <c:lblAlgn val="ctr"/>
        <c:lblOffset val="100"/>
        <c:noMultiLvlLbl val="0"/>
      </c:catAx>
      <c:valAx>
        <c:axId val="232352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109602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1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296" spc="-1" strike="noStrike">
                <a:solidFill>
                  <a:srgbClr val="000000"/>
                </a:solidFill>
                <a:latin typeface="Arial"/>
              </a:defRPr>
            </a:pPr>
            <a:r>
              <a:rPr b="0" sz="1296" spc="-1" strike="noStrike">
                <a:solidFill>
                  <a:srgbClr val="000000"/>
                </a:solidFill>
                <a:latin typeface="Arial"/>
              </a:rPr>
              <a:t>EEDMM</a:t>
            </a:r>
          </a:p>
        </c:rich>
      </c:tx>
      <c:layout>
        <c:manualLayout>
          <c:xMode val="edge"/>
          <c:yMode val="edge"/>
          <c:x val="0.467481779441635"/>
          <c:y val="0.019962302947224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30048986419"/>
          <c:y val="0.119602467443454"/>
          <c:w val="0.959974511131467"/>
          <c:h val="0.860263879369431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G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"/>
                <c:pt idx="0">
                  <c:v>2008 Agosto</c:v>
                </c:pt>
                <c:pt idx="1">
                  <c:v>2008 setembro</c:v>
                </c:pt>
                <c:pt idx="2">
                  <c:v>2008 outubro</c:v>
                </c:pt>
                <c:pt idx="3">
                  <c:v>2008 novembro</c:v>
                </c:pt>
                <c:pt idx="4">
                  <c:v>2009 março</c:v>
                </c:pt>
                <c:pt idx="5">
                  <c:v>2009 abril</c:v>
                </c:pt>
                <c:pt idx="6">
                  <c:v>2009 maio</c:v>
                </c:pt>
                <c:pt idx="7">
                  <c:v>2009 junho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8"/>
                <c:pt idx="0">
                  <c:v>30.9210526315789</c:v>
                </c:pt>
                <c:pt idx="1">
                  <c:v>43.6708860759494</c:v>
                </c:pt>
                <c:pt idx="2">
                  <c:v>82.2222222222222</c:v>
                </c:pt>
                <c:pt idx="3">
                  <c:v>95.4545454545455</c:v>
                </c:pt>
                <c:pt idx="4">
                  <c:v>78.7037037037037</c:v>
                </c:pt>
                <c:pt idx="5">
                  <c:v>43.312101910828</c:v>
                </c:pt>
                <c:pt idx="6">
                  <c:v>71.3235294117647</c:v>
                </c:pt>
                <c:pt idx="7">
                  <c:v>82.5396825396825</c:v>
                </c:pt>
              </c:numCache>
            </c:numRef>
          </c:val>
        </c:ser>
        <c:gapWidth val="100"/>
        <c:overlap val="0"/>
        <c:axId val="79561839"/>
        <c:axId val="25033961"/>
      </c:barChart>
      <c:catAx>
        <c:axId val="7956183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1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033961"/>
        <c:crossesAt val="0"/>
        <c:auto val="1"/>
        <c:lblAlgn val="ctr"/>
        <c:lblOffset val="100"/>
        <c:noMultiLvlLbl val="0"/>
      </c:catAx>
      <c:valAx>
        <c:axId val="250339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561839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285" spc="-1" strike="noStrike">
                <a:solidFill>
                  <a:srgbClr val="000000"/>
                </a:solidFill>
                <a:latin typeface="Arial"/>
              </a:defRPr>
            </a:pPr>
            <a:r>
              <a:rPr b="1" sz="1285" spc="-1" strike="noStrike">
                <a:solidFill>
                  <a:srgbClr val="000000"/>
                </a:solidFill>
                <a:latin typeface="Arial"/>
              </a:rPr>
              <a:t>PERIODO MATUTINO EEDMM</a:t>
            </a:r>
          </a:p>
        </c:rich>
      </c:tx>
      <c:layout>
        <c:manualLayout>
          <c:xMode val="edge"/>
          <c:yMode val="edge"/>
          <c:x val="0.350394429835932"/>
          <c:y val="0.020595880823835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251879560016"/>
          <c:y val="0.160767846430714"/>
          <c:w val="0.959927410095922"/>
          <c:h val="0.818636272745451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5</c:v>
                </c:pt>
                <c:pt idx="1">
                  <c:v>5</c:v>
                </c:pt>
                <c:pt idx="2">
                  <c:v>6</c:v>
                </c:pt>
                <c:pt idx="3">
                  <c:v>2</c:v>
                </c:pt>
                <c:pt idx="4">
                  <c:v>0</c:v>
                </c:pt>
                <c:pt idx="5">
                  <c:v>0</c:v>
                </c:pt>
                <c:pt idx="6">
                  <c:v>4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7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5.81632653061224</c:v>
                </c:pt>
                <c:pt idx="1">
                  <c:v>4.6530612244898</c:v>
                </c:pt>
                <c:pt idx="2">
                  <c:v>12.7959183673469</c:v>
                </c:pt>
                <c:pt idx="3">
                  <c:v>11.6326530612245</c:v>
                </c:pt>
                <c:pt idx="4">
                  <c:v>5.81632653061224</c:v>
                </c:pt>
                <c:pt idx="5">
                  <c:v>5.81632653061224</c:v>
                </c:pt>
                <c:pt idx="6">
                  <c:v>2.3265306122449</c:v>
                </c:pt>
                <c:pt idx="7">
                  <c:v>5.81632653061224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.16326530612245</c:v>
                </c:pt>
                <c:pt idx="15">
                  <c:v>1.16326530612245</c:v>
                </c:pt>
              </c:numCache>
            </c:numRef>
          </c:val>
        </c:ser>
        <c:gapWidth val="100"/>
        <c:overlap val="0"/>
        <c:axId val="16664951"/>
        <c:axId val="49657028"/>
      </c:barChart>
      <c:catAx>
        <c:axId val="1666495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657028"/>
        <c:crossesAt val="0"/>
        <c:auto val="1"/>
        <c:lblAlgn val="ctr"/>
        <c:lblOffset val="100"/>
        <c:noMultiLvlLbl val="0"/>
      </c:catAx>
      <c:valAx>
        <c:axId val="496570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664951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800" spc="-1" strike="noStrike">
                <a:solidFill>
                  <a:srgbClr val="000000"/>
                </a:solidFill>
                <a:latin typeface="Arial"/>
              </a:defRPr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PERIODO MATUTINO EEDMM</a:t>
            </a:r>
          </a:p>
        </c:rich>
      </c:tx>
      <c:layout>
        <c:manualLayout>
          <c:xMode val="edge"/>
          <c:yMode val="edge"/>
          <c:x val="0.333098852276935"/>
          <c:y val="0.0200040008001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55720103665"/>
          <c:y val="0.209241848369674"/>
          <c:w val="0.959903739355794"/>
          <c:h val="0.77075415083016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9</c:v>
                </c:pt>
                <c:pt idx="1">
                  <c:v>3</c:v>
                </c:pt>
                <c:pt idx="2">
                  <c:v>8</c:v>
                </c:pt>
                <c:pt idx="3">
                  <c:v>3</c:v>
                </c:pt>
                <c:pt idx="4">
                  <c:v>1</c:v>
                </c:pt>
                <c:pt idx="5">
                  <c:v>8</c:v>
                </c:pt>
                <c:pt idx="6">
                  <c:v>14</c:v>
                </c:pt>
                <c:pt idx="7">
                  <c:v>2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5.10204081632653</c:v>
                </c:pt>
                <c:pt idx="1">
                  <c:v>4.08163265306122</c:v>
                </c:pt>
                <c:pt idx="2">
                  <c:v>11.2244897959184</c:v>
                </c:pt>
                <c:pt idx="3">
                  <c:v>10.2040816326531</c:v>
                </c:pt>
                <c:pt idx="4">
                  <c:v>5.10204081632653</c:v>
                </c:pt>
                <c:pt idx="5">
                  <c:v>5.10204081632653</c:v>
                </c:pt>
                <c:pt idx="6">
                  <c:v>2.04081632653061</c:v>
                </c:pt>
                <c:pt idx="7">
                  <c:v>5.10204081632653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.02040816326531</c:v>
                </c:pt>
                <c:pt idx="15">
                  <c:v>1.02040816326531</c:v>
                </c:pt>
              </c:numCache>
            </c:numRef>
          </c:val>
        </c:ser>
        <c:gapWidth val="100"/>
        <c:overlap val="0"/>
        <c:axId val="51733628"/>
        <c:axId val="80547596"/>
      </c:barChart>
      <c:catAx>
        <c:axId val="5173362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547596"/>
        <c:crossesAt val="0"/>
        <c:auto val="1"/>
        <c:lblAlgn val="ctr"/>
        <c:lblOffset val="100"/>
        <c:noMultiLvlLbl val="0"/>
      </c:catAx>
      <c:valAx>
        <c:axId val="805475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733628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071" spc="-1" strike="noStrike">
                <a:solidFill>
                  <a:srgbClr val="000000"/>
                </a:solidFill>
                <a:latin typeface="Arial"/>
              </a:defRPr>
            </a:pPr>
            <a:r>
              <a:rPr b="1" sz="1071" spc="-1" strike="noStrike">
                <a:solidFill>
                  <a:srgbClr val="000000"/>
                </a:solidFill>
                <a:latin typeface="Arial"/>
              </a:rPr>
              <a:t>PERIODO MATUTINO EEDMM</a:t>
            </a:r>
          </a:p>
        </c:rich>
      </c:tx>
      <c:layout>
        <c:manualLayout>
          <c:xMode val="edge"/>
          <c:yMode val="edge"/>
          <c:x val="0.350606639704902"/>
          <c:y val="0.0203972803626183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160911878416211"/>
          <c:w val="0.959957335229545"/>
          <c:h val="0.818557525663245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3</c:v>
                </c:pt>
                <c:pt idx="1">
                  <c:v>0</c:v>
                </c:pt>
                <c:pt idx="2">
                  <c:v>44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2</c:v>
                </c:pt>
                <c:pt idx="7">
                  <c:v>1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6.83673469387755</c:v>
                </c:pt>
                <c:pt idx="1">
                  <c:v>5.46938775510204</c:v>
                </c:pt>
                <c:pt idx="2">
                  <c:v>15.0408163265306</c:v>
                </c:pt>
                <c:pt idx="3">
                  <c:v>13.6734693877551</c:v>
                </c:pt>
                <c:pt idx="4">
                  <c:v>6.83673469387755</c:v>
                </c:pt>
                <c:pt idx="5">
                  <c:v>6.83673469387755</c:v>
                </c:pt>
                <c:pt idx="6">
                  <c:v>2.73469387755102</c:v>
                </c:pt>
                <c:pt idx="7">
                  <c:v>6.83673469387755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.36734693877551</c:v>
                </c:pt>
                <c:pt idx="15">
                  <c:v>1.36734693877551</c:v>
                </c:pt>
              </c:numCache>
            </c:numRef>
          </c:val>
        </c:ser>
        <c:gapWidth val="100"/>
        <c:overlap val="0"/>
        <c:axId val="5904796"/>
        <c:axId val="19146908"/>
      </c:barChart>
      <c:catAx>
        <c:axId val="5904796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146908"/>
        <c:crossesAt val="0"/>
        <c:auto val="1"/>
        <c:lblAlgn val="ctr"/>
        <c:lblOffset val="100"/>
        <c:noMultiLvlLbl val="0"/>
      </c:catAx>
      <c:valAx>
        <c:axId val="191469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04796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600" spc="-1" strike="noStrike">
                <a:solidFill>
                  <a:srgbClr val="000000"/>
                </a:solidFill>
                <a:latin typeface="Arial"/>
              </a:defRPr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PERIODO VESPERTINO EEDMM</a:t>
            </a:r>
          </a:p>
        </c:rich>
      </c:tx>
      <c:layout>
        <c:manualLayout>
          <c:xMode val="edge"/>
          <c:yMode val="edge"/>
          <c:x val="0.426650864782786"/>
          <c:y val="0.020595880823835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251879560016"/>
          <c:y val="0.096380723855229"/>
          <c:w val="0.959927410095922"/>
          <c:h val="0.883223355328934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0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4</c:v>
                </c:pt>
                <c:pt idx="7">
                  <c:v>0</c:v>
                </c:pt>
                <c:pt idx="8">
                  <c:v>0</c:v>
                </c:pt>
                <c:pt idx="9">
                  <c:v>3</c:v>
                </c:pt>
                <c:pt idx="10">
                  <c:v>1</c:v>
                </c:pt>
                <c:pt idx="11">
                  <c:v>3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1.62295081967213</c:v>
                </c:pt>
                <c:pt idx="1">
                  <c:v>1.26229508196721</c:v>
                </c:pt>
                <c:pt idx="2">
                  <c:v>3.78688524590164</c:v>
                </c:pt>
                <c:pt idx="3">
                  <c:v>3.78688524590164</c:v>
                </c:pt>
                <c:pt idx="4">
                  <c:v>1.80327868852459</c:v>
                </c:pt>
                <c:pt idx="5">
                  <c:v>1.80327868852459</c:v>
                </c:pt>
                <c:pt idx="6">
                  <c:v>1.08196721311475</c:v>
                </c:pt>
                <c:pt idx="7">
                  <c:v>0.721311475409836</c:v>
                </c:pt>
                <c:pt idx="8">
                  <c:v>1.08196721311475</c:v>
                </c:pt>
                <c:pt idx="9">
                  <c:v>1.44262295081967</c:v>
                </c:pt>
                <c:pt idx="10">
                  <c:v>1.26229508196721</c:v>
                </c:pt>
                <c:pt idx="11">
                  <c:v>1.08196721311475</c:v>
                </c:pt>
                <c:pt idx="12">
                  <c:v>0.540983606557377</c:v>
                </c:pt>
                <c:pt idx="13">
                  <c:v>0.360655737704918</c:v>
                </c:pt>
                <c:pt idx="14">
                  <c:v>0</c:v>
                </c:pt>
                <c:pt idx="15">
                  <c:v>0.360655737704918</c:v>
                </c:pt>
              </c:numCache>
            </c:numRef>
          </c:val>
        </c:ser>
        <c:gapWidth val="100"/>
        <c:overlap val="0"/>
        <c:axId val="80684978"/>
        <c:axId val="43689156"/>
      </c:barChart>
      <c:catAx>
        <c:axId val="8068497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689156"/>
        <c:crossesAt val="0"/>
        <c:auto val="1"/>
        <c:lblAlgn val="ctr"/>
        <c:lblOffset val="100"/>
        <c:noMultiLvlLbl val="0"/>
      </c:catAx>
      <c:valAx>
        <c:axId val="436891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684978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286" spc="-1" strike="noStrike">
                <a:solidFill>
                  <a:srgbClr val="000000"/>
                </a:solidFill>
                <a:latin typeface="Arial"/>
              </a:defRPr>
            </a:pPr>
            <a:r>
              <a:rPr b="1" sz="1286" spc="-1" strike="noStrike">
                <a:solidFill>
                  <a:srgbClr val="000000"/>
                </a:solidFill>
                <a:latin typeface="Arial"/>
              </a:rPr>
              <a:t>VESPERTINO EEDMM</a:t>
            </a:r>
          </a:p>
        </c:rich>
      </c:tx>
      <c:layout>
        <c:manualLayout>
          <c:xMode val="edge"/>
          <c:yMode val="edge"/>
          <c:x val="0.389948520425169"/>
          <c:y val="0.020595880823835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251879560016"/>
          <c:y val="0.160567886422715"/>
          <c:w val="0.959927410095922"/>
          <c:h val="0.818836232753449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2</c:v>
                </c:pt>
                <c:pt idx="2">
                  <c:v>2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1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2.65573770491803</c:v>
                </c:pt>
                <c:pt idx="1">
                  <c:v>2.0655737704918</c:v>
                </c:pt>
                <c:pt idx="2">
                  <c:v>6.19672131147541</c:v>
                </c:pt>
                <c:pt idx="3">
                  <c:v>6.19672131147541</c:v>
                </c:pt>
                <c:pt idx="4">
                  <c:v>2.95081967213115</c:v>
                </c:pt>
                <c:pt idx="5">
                  <c:v>2.95081967213115</c:v>
                </c:pt>
                <c:pt idx="6">
                  <c:v>1.77049180327869</c:v>
                </c:pt>
                <c:pt idx="7">
                  <c:v>1.18032786885246</c:v>
                </c:pt>
                <c:pt idx="8">
                  <c:v>1.77049180327869</c:v>
                </c:pt>
                <c:pt idx="9">
                  <c:v>2.36065573770492</c:v>
                </c:pt>
                <c:pt idx="10">
                  <c:v>2.0655737704918</c:v>
                </c:pt>
                <c:pt idx="11">
                  <c:v>1.77049180327869</c:v>
                </c:pt>
                <c:pt idx="12">
                  <c:v>0.885245901639344</c:v>
                </c:pt>
                <c:pt idx="13">
                  <c:v>0.59016393442623</c:v>
                </c:pt>
                <c:pt idx="14">
                  <c:v>0</c:v>
                </c:pt>
                <c:pt idx="15">
                  <c:v>0.59016393442623</c:v>
                </c:pt>
              </c:numCache>
            </c:numRef>
          </c:val>
        </c:ser>
        <c:gapWidth val="100"/>
        <c:overlap val="0"/>
        <c:axId val="97204317"/>
        <c:axId val="58367923"/>
      </c:barChart>
      <c:catAx>
        <c:axId val="9720431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367923"/>
        <c:crossesAt val="0"/>
        <c:auto val="1"/>
        <c:lblAlgn val="ctr"/>
        <c:lblOffset val="100"/>
        <c:noMultiLvlLbl val="0"/>
      </c:catAx>
      <c:valAx>
        <c:axId val="583679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204317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800" spc="-1" strike="noStrike">
                <a:solidFill>
                  <a:srgbClr val="000000"/>
                </a:solidFill>
                <a:latin typeface="Arial"/>
              </a:defRPr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VESPERTINO EEDMM</a:t>
            </a:r>
          </a:p>
        </c:rich>
      </c:tx>
      <c:layout>
        <c:manualLayout>
          <c:xMode val="edge"/>
          <c:yMode val="edge"/>
          <c:x val="0.377045538689374"/>
          <c:y val="0.0200040008001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55720103665"/>
          <c:y val="0.209241848369674"/>
          <c:w val="0.959903739355794"/>
          <c:h val="0.77075415083016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6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4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2.50819672131148</c:v>
                </c:pt>
                <c:pt idx="1">
                  <c:v>1.95081967213115</c:v>
                </c:pt>
                <c:pt idx="2">
                  <c:v>5.85245901639344</c:v>
                </c:pt>
                <c:pt idx="3">
                  <c:v>5.85245901639344</c:v>
                </c:pt>
                <c:pt idx="4">
                  <c:v>2.78688524590164</c:v>
                </c:pt>
                <c:pt idx="5">
                  <c:v>2.78688524590164</c:v>
                </c:pt>
                <c:pt idx="6">
                  <c:v>1.67213114754098</c:v>
                </c:pt>
                <c:pt idx="7">
                  <c:v>1.11475409836066</c:v>
                </c:pt>
                <c:pt idx="8">
                  <c:v>1.67213114754098</c:v>
                </c:pt>
                <c:pt idx="9">
                  <c:v>2.22950819672131</c:v>
                </c:pt>
                <c:pt idx="10">
                  <c:v>1.95081967213115</c:v>
                </c:pt>
                <c:pt idx="11">
                  <c:v>1.67213114754098</c:v>
                </c:pt>
                <c:pt idx="12">
                  <c:v>0.836065573770492</c:v>
                </c:pt>
                <c:pt idx="13">
                  <c:v>0.557377049180328</c:v>
                </c:pt>
                <c:pt idx="14">
                  <c:v>0</c:v>
                </c:pt>
                <c:pt idx="15">
                  <c:v>0.557377049180328</c:v>
                </c:pt>
              </c:numCache>
            </c:numRef>
          </c:val>
        </c:ser>
        <c:gapWidth val="100"/>
        <c:overlap val="0"/>
        <c:axId val="72047259"/>
        <c:axId val="76425282"/>
      </c:barChart>
      <c:catAx>
        <c:axId val="7204725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425282"/>
        <c:crossesAt val="0"/>
        <c:auto val="1"/>
        <c:lblAlgn val="ctr"/>
        <c:lblOffset val="100"/>
        <c:noMultiLvlLbl val="0"/>
      </c:catAx>
      <c:valAx>
        <c:axId val="764252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047259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071" spc="-1" strike="noStrike">
                <a:solidFill>
                  <a:srgbClr val="000000"/>
                </a:solidFill>
                <a:latin typeface="Arial"/>
              </a:defRPr>
            </a:pPr>
            <a:r>
              <a:rPr b="1" sz="1071" spc="-1" strike="noStrike">
                <a:solidFill>
                  <a:srgbClr val="000000"/>
                </a:solidFill>
                <a:latin typeface="Arial"/>
              </a:rPr>
              <a:t>VESPERTINO EEDMM</a:t>
            </a:r>
          </a:p>
        </c:rich>
      </c:tx>
      <c:layout>
        <c:manualLayout>
          <c:xMode val="edge"/>
          <c:yMode val="edge"/>
          <c:x val="0.39007155237545"/>
          <c:y val="0.0203972803626183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16064524730036"/>
          <c:w val="0.959957335229545"/>
          <c:h val="0.81895747233702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26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1</c:v>
                </c:pt>
                <c:pt idx="10">
                  <c:v>0</c:v>
                </c:pt>
                <c:pt idx="11">
                  <c:v>8</c:v>
                </c:pt>
                <c:pt idx="12">
                  <c:v>0</c:v>
                </c:pt>
                <c:pt idx="13">
                  <c:v>2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3.29268292682927</c:v>
                </c:pt>
                <c:pt idx="1">
                  <c:v>2.5609756097561</c:v>
                </c:pt>
                <c:pt idx="2">
                  <c:v>7.68292682926829</c:v>
                </c:pt>
                <c:pt idx="3">
                  <c:v>7.68292682926829</c:v>
                </c:pt>
                <c:pt idx="4">
                  <c:v>3.65853658536585</c:v>
                </c:pt>
                <c:pt idx="5">
                  <c:v>3.65853658536585</c:v>
                </c:pt>
                <c:pt idx="6">
                  <c:v>2.19512195121951</c:v>
                </c:pt>
                <c:pt idx="7">
                  <c:v>1.46341463414634</c:v>
                </c:pt>
                <c:pt idx="8">
                  <c:v>2.19512195121951</c:v>
                </c:pt>
                <c:pt idx="9">
                  <c:v>2.92682926829268</c:v>
                </c:pt>
                <c:pt idx="10">
                  <c:v>2.5609756097561</c:v>
                </c:pt>
                <c:pt idx="11">
                  <c:v>2.19512195121951</c:v>
                </c:pt>
                <c:pt idx="12">
                  <c:v>1.09756097560976</c:v>
                </c:pt>
                <c:pt idx="13">
                  <c:v>1.09756097560976</c:v>
                </c:pt>
                <c:pt idx="14">
                  <c:v>0</c:v>
                </c:pt>
                <c:pt idx="15">
                  <c:v>0.731707317073171</c:v>
                </c:pt>
              </c:numCache>
            </c:numRef>
          </c:val>
        </c:ser>
        <c:gapWidth val="100"/>
        <c:overlap val="0"/>
        <c:axId val="99055038"/>
        <c:axId val="12232094"/>
      </c:barChart>
      <c:catAx>
        <c:axId val="9905503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232094"/>
        <c:crossesAt val="0"/>
        <c:auto val="1"/>
        <c:lblAlgn val="ctr"/>
        <c:lblOffset val="100"/>
        <c:noMultiLvlLbl val="0"/>
      </c:catAx>
      <c:valAx>
        <c:axId val="122320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055038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600" spc="-1" strike="noStrike">
                <a:solidFill>
                  <a:srgbClr val="000000"/>
                </a:solidFill>
                <a:latin typeface="Arial"/>
              </a:defRPr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PERIODO NOTURNO EEDMM</a:t>
            </a:r>
          </a:p>
        </c:rich>
      </c:tx>
      <c:layout>
        <c:manualLayout>
          <c:xMode val="edge"/>
          <c:yMode val="edge"/>
          <c:x val="0.432169178919299"/>
          <c:y val="0.020595880823835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251879560016"/>
          <c:y val="0.0967806438712258"/>
          <c:w val="0.959927410095922"/>
          <c:h val="0.882623475304939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6</c:v>
                </c:pt>
                <c:pt idx="2">
                  <c:v>14</c:v>
                </c:pt>
                <c:pt idx="3">
                  <c:v>1</c:v>
                </c:pt>
                <c:pt idx="4">
                  <c:v>4</c:v>
                </c:pt>
                <c:pt idx="5">
                  <c:v>0</c:v>
                </c:pt>
                <c:pt idx="6">
                  <c:v>2</c:v>
                </c:pt>
                <c:pt idx="7">
                  <c:v>3</c:v>
                </c:pt>
                <c:pt idx="8">
                  <c:v>1</c:v>
                </c:pt>
                <c:pt idx="9">
                  <c:v>2</c:v>
                </c:pt>
                <c:pt idx="10">
                  <c:v>2</c:v>
                </c:pt>
                <c:pt idx="11">
                  <c:v>2</c:v>
                </c:pt>
                <c:pt idx="12">
                  <c:v>2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2.44715447154472</c:v>
                </c:pt>
                <c:pt idx="1">
                  <c:v>2.44715447154472</c:v>
                </c:pt>
                <c:pt idx="2">
                  <c:v>7.34146341463415</c:v>
                </c:pt>
                <c:pt idx="3">
                  <c:v>6.29268292682927</c:v>
                </c:pt>
                <c:pt idx="4">
                  <c:v>4.54471544715447</c:v>
                </c:pt>
                <c:pt idx="5">
                  <c:v>4.54471544715447</c:v>
                </c:pt>
                <c:pt idx="6">
                  <c:v>3.84552845528455</c:v>
                </c:pt>
                <c:pt idx="7">
                  <c:v>3.14634146341463</c:v>
                </c:pt>
                <c:pt idx="8">
                  <c:v>1.39837398373984</c:v>
                </c:pt>
                <c:pt idx="9">
                  <c:v>1.7479674796748</c:v>
                </c:pt>
                <c:pt idx="10">
                  <c:v>1.7479674796748</c:v>
                </c:pt>
                <c:pt idx="11">
                  <c:v>1.39837398373984</c:v>
                </c:pt>
                <c:pt idx="12">
                  <c:v>1.04878048780488</c:v>
                </c:pt>
                <c:pt idx="13">
                  <c:v>0.349593495934959</c:v>
                </c:pt>
                <c:pt idx="14">
                  <c:v>0.699186991869919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78915905"/>
        <c:axId val="77408730"/>
      </c:barChart>
      <c:catAx>
        <c:axId val="78915905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408730"/>
        <c:crossesAt val="0"/>
        <c:auto val="1"/>
        <c:lblAlgn val="ctr"/>
        <c:lblOffset val="100"/>
        <c:noMultiLvlLbl val="0"/>
      </c:catAx>
      <c:valAx>
        <c:axId val="774087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915905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EFD0-E816-4390-9B33-E080C3FD5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12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4064400"/>
            <a:ext cx="712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3253-35A1-4D22-9E63-EBEC0BEE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4856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A2DB-EBF2-4565-BBC1-9FF0B4222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05840" y="170028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16400" y="170028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406440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05840" y="406440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16400" y="406440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5216-E70C-4D50-9C39-67CE41619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05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9528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44CC-59D9-4F09-9ABE-DDBD3C47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04856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5280" y="4064400"/>
            <a:ext cx="712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12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5280" y="4064400"/>
            <a:ext cx="712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528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04856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805840" y="170028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216400" y="170028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5280" y="406440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2805840" y="406440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216400" y="406440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C865-3387-4B72-8414-6748FD96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D3C6-BFED-4640-A89F-3D3AF394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AD02-9FF7-42F5-B17F-0A6082CB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05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8A3D-FC79-4210-AFB7-8642C64B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DFD8-4942-445A-BAF0-71CCFABE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4856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B9DF-A8E7-4DB0-AECF-AF889AE5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4064400"/>
            <a:ext cx="712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18FB-5D03-4D91-A1BC-052CD3E4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1280" y="6364440"/>
            <a:ext cx="1162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3492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360" y="6364440"/>
            <a:ext cx="53964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DC60-F817-4CF0-B3DD-BE95D7109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chart" Target="../charts/chart4.xml"/><Relationship Id="rId4" Type="http://schemas.openxmlformats.org/officeDocument/2006/relationships/package" Target="../embeddings/oleObject1.xlsx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..\Estat&#237;stica de uso\Diagn&#243;stico - Dr Martinho Marques\Matutino - Ivanete\Relat&#243;rio de Frequ&#234;ncia - Matutino - Alterado - 28-07.doc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chart" Target="../charts/chart5.xml"/><Relationship Id="rId4" Type="http://schemas.openxmlformats.org/officeDocument/2006/relationships/package" Target="../embeddings/oleObject1.xlsx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chart" Target="../charts/chart6.xml"/><Relationship Id="rId4" Type="http://schemas.openxmlformats.org/officeDocument/2006/relationships/package" Target="../embeddings/oleObject1.xlsx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chart" Target="../charts/chart7.xml"/><Relationship Id="rId4" Type="http://schemas.openxmlformats.org/officeDocument/2006/relationships/package" Target="../embeddings/oleObject1.xlsx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chart" Target="../charts/chart8.xml"/><Relationship Id="rId4" Type="http://schemas.openxmlformats.org/officeDocument/2006/relationships/package" Target="../embeddings/oleObject1.xlsx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..\Estat&#237;stica de uso\Diagn&#243;stico - Dr Martinho Marques\Vespertino - Sirlei\Relat&#243;rio de Frequ&#234;ncia - Sirlei.doc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chart" Target="../charts/chart9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chart" Target="../charts/chart10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13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chart" Target="../charts/chart11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14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chart" Target="../charts/chart12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15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..\Estat&#237;stica de uso\Diagn&#243;stico - Dr Martinho Marques\Noturno - Cida\Relat&#243;rio de Frequ&#234;ncia de uso - Cida - Alterado.doc" TargetMode="Externa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chart" Target="../charts/chart13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chart" Target="../charts/chart14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Cronograma de a&#231;&#245;es dos PSTE - 2&#186; semestre - 31-07.doc" TargetMode="External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rmartinhomarques.wikispaces.com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chart" Target="../charts/chart1.xml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chart" Target="../charts/chart2.xml"/><Relationship Id="rId4" Type="http://schemas.openxmlformats.org/officeDocument/2006/relationships/package" Target="../embeddings/oleObject1.xls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chart" Target="../charts/chart3.xml"/><Relationship Id="rId4" Type="http://schemas.openxmlformats.org/officeDocument/2006/relationships/package" Target="../embeddings/oleObject1.xls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1213920"/>
            <a:ext cx="745164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E DR MARTINHO MARQUE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QUARUSSU - 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250920" y="5229000"/>
            <a:ext cx="68421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UNIÃO SEMES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CaixaDeTexto 4"/>
          <p:cNvSpPr/>
          <p:nvPr/>
        </p:nvSpPr>
        <p:spPr>
          <a:xfrm>
            <a:off x="1500120" y="4500720"/>
            <a:ext cx="3000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6429240" y="4643280"/>
            <a:ext cx="1695600" cy="790560"/>
          </a:xfrm>
          <a:prstGeom prst="rect">
            <a:avLst/>
          </a:prstGeom>
          <a:ln w="0">
            <a:noFill/>
          </a:ln>
        </p:spPr>
      </p:pic>
      <p:sp>
        <p:nvSpPr>
          <p:cNvPr id="113" name="Espaço Reservado para Rodapé 3"/>
          <p:cNvSpPr/>
          <p:nvPr/>
        </p:nvSpPr>
        <p:spPr>
          <a:xfrm>
            <a:off x="1258920" y="616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Azenaide Abreu Soares Vi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08000" y="1628640"/>
          <a:ext cx="8099280" cy="270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476360" y="4437000"/>
          <a:ext cx="4764240" cy="1449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76360" y="4437000"/>
                    <a:ext cx="476424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- Identificação dos professores que usaram as tecnologias efetivamente no 1º semestre e os que não utilizaram e qual turno apresentou menos u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85840" y="17146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ELATÓRIO DE FREQUÊNCIA NA STE - MATUT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Espaço Reservado para Rodapé 3"/>
          <p:cNvSpPr/>
          <p:nvPr/>
        </p:nvSpPr>
        <p:spPr>
          <a:xfrm>
            <a:off x="1258920" y="616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Azenaide Abreu Soares Vi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ESPERTI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ÇO, ABRIL, MAIO E JUN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FESSORA SIRL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spaço Reservado para Rodapé 3"/>
          <p:cNvSpPr/>
          <p:nvPr/>
        </p:nvSpPr>
        <p:spPr>
          <a:xfrm>
            <a:off x="1258920" y="616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Azenaide Abreu Soares Vi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6572160" y="4643280"/>
            <a:ext cx="1695600" cy="790560"/>
          </a:xfrm>
          <a:prstGeom prst="rect">
            <a:avLst/>
          </a:prstGeom>
          <a:ln w="0">
            <a:noFill/>
          </a:ln>
        </p:spPr>
      </p:pic>
      <p:sp>
        <p:nvSpPr>
          <p:cNvPr id="125" name="Espaço Reservado para Rodapé 3"/>
          <p:cNvSpPr/>
          <p:nvPr/>
        </p:nvSpPr>
        <p:spPr>
          <a:xfrm>
            <a:off x="1258920" y="616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Azenaide Abreu Soares Vi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39640" y="1619280"/>
          <a:ext cx="809964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2700360" y="4670280"/>
          <a:ext cx="3811680" cy="1449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00360" y="46702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6500880" y="4714920"/>
            <a:ext cx="1695240" cy="790560"/>
          </a:xfrm>
          <a:prstGeom prst="rect">
            <a:avLst/>
          </a:prstGeom>
          <a:ln w="0">
            <a:noFill/>
          </a:ln>
        </p:spPr>
      </p:pic>
      <p:sp>
        <p:nvSpPr>
          <p:cNvPr id="131" name="Espaço Reservado para Rodapé 3"/>
          <p:cNvSpPr/>
          <p:nvPr/>
        </p:nvSpPr>
        <p:spPr>
          <a:xfrm>
            <a:off x="1258920" y="616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Azenaide Abreu Soares Vi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39640" y="1619280"/>
          <a:ext cx="809964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2700360" y="4680000"/>
          <a:ext cx="3811680" cy="1449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00360" y="468000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CaixaDeTexto 4"/>
          <p:cNvSpPr/>
          <p:nvPr/>
        </p:nvSpPr>
        <p:spPr>
          <a:xfrm>
            <a:off x="1571760" y="4572000"/>
            <a:ext cx="2357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6500880" y="4643280"/>
            <a:ext cx="1695240" cy="790560"/>
          </a:xfrm>
          <a:prstGeom prst="rect">
            <a:avLst/>
          </a:prstGeom>
          <a:ln w="0">
            <a:noFill/>
          </a:ln>
        </p:spPr>
      </p:pic>
      <p:sp>
        <p:nvSpPr>
          <p:cNvPr id="138" name="Espaço Reservado para Rodapé 3"/>
          <p:cNvSpPr/>
          <p:nvPr/>
        </p:nvSpPr>
        <p:spPr>
          <a:xfrm>
            <a:off x="1258920" y="616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Azenaide Abreu Soares Vi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39640" y="1619280"/>
          <a:ext cx="809964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2700360" y="4680000"/>
          <a:ext cx="3811680" cy="1449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00360" y="468000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CaixaDeTexto 4"/>
          <p:cNvSpPr/>
          <p:nvPr/>
        </p:nvSpPr>
        <p:spPr>
          <a:xfrm>
            <a:off x="1643040" y="4429080"/>
            <a:ext cx="30718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6572160" y="4500720"/>
            <a:ext cx="1695600" cy="790560"/>
          </a:xfrm>
          <a:prstGeom prst="rect">
            <a:avLst/>
          </a:prstGeom>
          <a:ln w="0">
            <a:noFill/>
          </a:ln>
        </p:spPr>
      </p:pic>
      <p:sp>
        <p:nvSpPr>
          <p:cNvPr id="145" name="Espaço Reservado para Rodapé 3"/>
          <p:cNvSpPr/>
          <p:nvPr/>
        </p:nvSpPr>
        <p:spPr>
          <a:xfrm>
            <a:off x="1258920" y="616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Azenaide Abreu Soares Vi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539640" y="1619280"/>
          <a:ext cx="8099640" cy="270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763640" y="4508640"/>
          <a:ext cx="4764240" cy="1449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63640" y="4508640"/>
                    <a:ext cx="476424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- Identificação dos professores que usaram as tecnologias efetivamente no 1º semestre e os que não utilizaram e qual turno apresentou menos u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85840" y="17146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ELATÓRIO DE FREQUÊNCIA NA STE - VESPERT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Espaço Reservado para Rodapé 3"/>
          <p:cNvSpPr/>
          <p:nvPr/>
        </p:nvSpPr>
        <p:spPr>
          <a:xfrm>
            <a:off x="1258920" y="616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Azenaide Abreu Soares Vi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OTURN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ÇO – ABRIL – MAIO - JUN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FESSORA APARECIDA CRIVELL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250920" y="1557360"/>
          <a:ext cx="8099280" cy="28414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5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879640" y="4680000"/>
          <a:ext cx="381168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79640" y="468000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8" name="Picture 4" descr=""/>
          <p:cNvPicPr/>
          <p:nvPr/>
        </p:nvPicPr>
        <p:blipFill>
          <a:blip r:embed="rId5"/>
          <a:stretch/>
        </p:blipFill>
        <p:spPr>
          <a:xfrm>
            <a:off x="6804000" y="5013360"/>
            <a:ext cx="1695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JETIVO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resentar o posicionamento da SED quanto a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mento das tecnologias nas escolas do est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M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resentar as ações que foram desenvolvidas pe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fessores multiplicadores (NTE – STE) no 1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mestre (página da escola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resentar, analisar e refletir a respeito do uso 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 da escola no 1º semestr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resentar cronograma de ações para o 2º semestr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39640" y="1657440"/>
          <a:ext cx="8099640" cy="28414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2700360" y="4670280"/>
          <a:ext cx="381168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46702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3" name="Picture 4" descr=""/>
          <p:cNvPicPr/>
          <p:nvPr/>
        </p:nvPicPr>
        <p:blipFill>
          <a:blip r:embed="rId5"/>
          <a:stretch/>
        </p:blipFill>
        <p:spPr>
          <a:xfrm>
            <a:off x="6804000" y="5084640"/>
            <a:ext cx="1695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539640" y="1657440"/>
          <a:ext cx="8099640" cy="28432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849400" y="4670280"/>
          <a:ext cx="381168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9400" y="46702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8" name="Picture 4" descr=""/>
          <p:cNvPicPr/>
          <p:nvPr/>
        </p:nvPicPr>
        <p:blipFill>
          <a:blip r:embed="rId5"/>
          <a:stretch/>
        </p:blipFill>
        <p:spPr>
          <a:xfrm>
            <a:off x="6948360" y="5157720"/>
            <a:ext cx="1695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57200" y="173160"/>
            <a:ext cx="821844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539640" y="1619280"/>
          <a:ext cx="809964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2340000" y="4500720"/>
          <a:ext cx="476424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500720"/>
                    <a:ext cx="476424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3" name="Picture 4" descr=""/>
          <p:cNvPicPr/>
          <p:nvPr/>
        </p:nvPicPr>
        <p:blipFill>
          <a:blip r:embed="rId5"/>
          <a:stretch/>
        </p:blipFill>
        <p:spPr>
          <a:xfrm>
            <a:off x="7164360" y="5084640"/>
            <a:ext cx="1695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vantamento de uso dos Professores –Noturno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ELATÓRIO DE FREQUÊNCIA NA STE - NOTU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Rectangle 3"/>
          <p:cNvGraphicFramePr/>
          <p:nvPr/>
        </p:nvGraphicFramePr>
        <p:xfrm>
          <a:off x="395280" y="2349360"/>
          <a:ext cx="7129440" cy="32259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pic>
        <p:nvPicPr>
          <p:cNvPr id="178" name="Picture 4" descr=""/>
          <p:cNvPicPr/>
          <p:nvPr/>
        </p:nvPicPr>
        <p:blipFill>
          <a:blip r:embed="rId3"/>
          <a:stretch/>
        </p:blipFill>
        <p:spPr>
          <a:xfrm>
            <a:off x="7164360" y="5084640"/>
            <a:ext cx="1695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326880" y="2122560"/>
          <a:ext cx="8199720" cy="38116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80" name=""/>
          <p:cNvSpPr/>
          <p:nvPr/>
        </p:nvSpPr>
        <p:spPr>
          <a:xfrm>
            <a:off x="0" y="620640"/>
            <a:ext cx="71848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PORCENTAGEM DE USO DA STE MÊS A MÊS DESDE AGOSTO DE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ronograma do plano de ação - P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FLEXÃO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aremos com as tecnologias mais avançadas o mesmo que fazemos conosco, com os outros, com a vid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..Se somos pessoas abertas, as utilizaremos para comunicar-nos mais, para interagir melhor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..Se somos pessoas fechadas, desconfiadas, utilizaremos as tecnologias de forma defensiva, superficial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.. Se somos pessoas autoritárias, utilizaremos as tecnologias para controlar, para aumentar o nosso pod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.. Veja que o poder de interação que as tecnologias proporcionam não está fundamentalmente nas tecnologias mas nas nossas m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José Manuel Mo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Espaço Reservado para Rodapé 3"/>
          <p:cNvSpPr/>
          <p:nvPr/>
        </p:nvSpPr>
        <p:spPr>
          <a:xfrm>
            <a:off x="1258920" y="616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Azenaide Abreu Soares Vi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IENTAÇÃO SED E COTE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olver todos os segmentos da escola (professores da STE, coordenadores, diretore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mos ter uma equipe coesa e eficiente na STE e NT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 necessário estimular e orientar o desenvolvimento de projetos de sucesso na escol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os e projeto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Ações previstas, executadas e a executar pelos professores da STE no 1º semestre de 2009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95280" y="170028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ágina da Esc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Realidade de uso da STE nos meses de março – abril – maio e jun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TUTI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79280" y="1700280"/>
            <a:ext cx="756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RÇO–ABRIL–MAIO-JUNH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FESSORA IVANE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Espaço Reservado para Rodapé 3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Azenaide Abreu Soares Vi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6500880" y="4500720"/>
            <a:ext cx="1695240" cy="790560"/>
          </a:xfrm>
          <a:prstGeom prst="rect">
            <a:avLst/>
          </a:prstGeom>
          <a:ln w="0">
            <a:noFill/>
          </a:ln>
        </p:spPr>
      </p:pic>
      <p:sp>
        <p:nvSpPr>
          <p:cNvPr id="93" name="Espaço Reservado para Rodapé 3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Azenaide Abreu Soares Vi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1557360"/>
          <a:ext cx="809928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1332000" y="4653000"/>
          <a:ext cx="3811680" cy="1449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32000" y="465300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6429240" y="4643280"/>
            <a:ext cx="1695600" cy="790560"/>
          </a:xfrm>
          <a:prstGeom prst="rect">
            <a:avLst/>
          </a:prstGeom>
          <a:ln w="0">
            <a:noFill/>
          </a:ln>
        </p:spPr>
      </p:pic>
      <p:sp>
        <p:nvSpPr>
          <p:cNvPr id="99" name="Espaço Reservado para Rodapé 3"/>
          <p:cNvSpPr/>
          <p:nvPr/>
        </p:nvSpPr>
        <p:spPr>
          <a:xfrm>
            <a:off x="1258920" y="616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Azenaide Abreu Soares Vi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9280" y="1628640"/>
          <a:ext cx="8099640" cy="288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619280" y="4581360"/>
          <a:ext cx="3811680" cy="14497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19280" y="4581360"/>
                    <a:ext cx="3811680" cy="14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CaixaDeTexto 4"/>
          <p:cNvSpPr/>
          <p:nvPr/>
        </p:nvSpPr>
        <p:spPr>
          <a:xfrm>
            <a:off x="1214280" y="4786200"/>
            <a:ext cx="30718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6500880" y="4572000"/>
            <a:ext cx="1695240" cy="790560"/>
          </a:xfrm>
          <a:prstGeom prst="rect">
            <a:avLst/>
          </a:prstGeom>
          <a:ln w="0">
            <a:noFill/>
          </a:ln>
        </p:spPr>
      </p:pic>
      <p:sp>
        <p:nvSpPr>
          <p:cNvPr id="106" name="Espaço Reservado para Rodapé 3"/>
          <p:cNvSpPr/>
          <p:nvPr/>
        </p:nvSpPr>
        <p:spPr>
          <a:xfrm>
            <a:off x="1258920" y="616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Azenaide Abreu Soares Vi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08000" y="1773360"/>
          <a:ext cx="8099280" cy="28414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268360" y="4653000"/>
          <a:ext cx="3811680" cy="1449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465300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11:26:23Z</dcterms:created>
  <dc:creator>Luciana Catarino</dc:creator>
  <dc:description/>
  <dc:language>en-US</dc:language>
  <cp:lastModifiedBy>SEDMS</cp:lastModifiedBy>
  <dcterms:modified xsi:type="dcterms:W3CDTF">2009-07-31T15:10:26Z</dcterms:modified>
  <cp:revision>34</cp:revision>
  <dc:subject/>
  <dc:title>EE PADRE ANCHIETA NOVA ANDRADINA - MS</dc:title>
</cp:coreProperties>
</file>